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BB9762-8BA6-416A-9CFA-41FF9EEE90D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EEF9-C148-42DA-BFA6-D595E4F72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659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F002-7355-405A-A47E-D8459C7E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659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9B79-F6D1-4F0B-B88A-FB2F85B90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659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C6E7-6E94-4471-805A-1A3FED9B2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CD950-C59F-4E4C-A1C2-32F4D8A64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659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8812-D883-4A11-93C6-DEBF53CA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659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864B-CF72-4347-A28C-82E65192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659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549F-149C-401C-BC22-38875E6E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659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A6EF-974B-4F9D-8CB7-8FE72BE8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465120"/>
            <a:ext cx="77659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39A79-F08A-4FE1-9242-BEE5A36B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659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2549-FDA1-4375-A73C-F0A863E3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659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A646-07EC-433D-9A51-1E1D7B7A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659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55DE-6701-4F15-8BB0-2172B000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659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4781-EC04-4212-8062-1EC4E5A5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659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F0B9-AE56-454C-93E6-5455FB14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659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222A-9E66-4D10-9406-0436E12F3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659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8C48-E3B5-4BDF-84C9-9A239EBCC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659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417B-962F-44FE-BFB2-7509E6F0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659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572C-C636-4C7B-B973-6129D90E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659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E9D2-D420-4668-A69C-11AD09AB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65120"/>
            <a:ext cx="77659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2368-A5C8-4B65-81B1-0955B126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659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AEE7-1298-4311-ABFA-2499700B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659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07C5-6336-436A-A1E7-1964B041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659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35B1-698C-4854-824F-83B7320A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680" y="1440"/>
            <a:ext cx="17542080" cy="13689000"/>
            <a:chOff x="-8410680" y="1440"/>
            <a:chExt cx="17542080" cy="13689000"/>
          </a:xfrm>
        </p:grpSpPr>
        <p:sp>
          <p:nvSpPr>
            <p:cNvPr id="1" name=""/>
            <p:cNvSpPr/>
            <p:nvPr/>
          </p:nvSpPr>
          <p:spPr>
            <a:xfrm>
              <a:off x="5386320" y="1585800"/>
              <a:ext cx="3745080" cy="5261040"/>
            </a:xfrm>
            <a:gradFill rotWithShape="0">
              <a:gsLst>
                <a:gs pos="0">
                  <a:srgbClr val="172f75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680" y="1440"/>
              <a:ext cx="16819560" cy="13689000"/>
            </a:xfrm>
            <a:custGeom>
              <a:avLst/>
              <a:gdLst>
                <a:gd name="textAreaLeft" fmla="*/ 8408880 w 16819560"/>
                <a:gd name="textAreaRight" fmla="*/ 16818840 w 16819560"/>
                <a:gd name="textAreaTop" fmla="*/ 0 h 13689000"/>
                <a:gd name="textAreaBottom" fmla="*/ 6843960 h 1368900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659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2F46D3-AEDB-4A8B-AD77-91AB10561026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2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82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2000"/>
              </a:lnSpc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82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82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5200"/>
            <a:ext cx="16903800" cy="10783800"/>
            <a:chOff x="-7761240" y="1465200"/>
            <a:chExt cx="16903800" cy="10783800"/>
          </a:xfrm>
        </p:grpSpPr>
        <p:sp>
          <p:nvSpPr>
            <p:cNvPr id="45" name=""/>
            <p:cNvSpPr/>
            <p:nvPr/>
          </p:nvSpPr>
          <p:spPr>
            <a:xfrm>
              <a:off x="3270240" y="2709720"/>
              <a:ext cx="5872320" cy="4148280"/>
            </a:xfrm>
            <a:gradFill rotWithShape="0">
              <a:gsLst>
                <a:gs pos="0">
                  <a:srgbClr val="172f75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5200"/>
              <a:ext cx="13450680" cy="10783800"/>
            </a:xfrm>
            <a:custGeom>
              <a:avLst/>
              <a:gdLst>
                <a:gd name="textAreaLeft" fmla="*/ 6724800 w 13450680"/>
                <a:gd name="textAreaRight" fmla="*/ 13450320 w 13450680"/>
                <a:gd name="textAreaTop" fmla="*/ 86760 h 10783800"/>
                <a:gd name="textAreaBottom" fmla="*/ 5391360 h 1078380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600" y="10800"/>
                  </a:moveTo>
                  <a:arcTo wR="10800" hR="10800" stAng="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0"/>
                </a:path>
              </a:pathLst>
            </a:cu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471600"/>
            <a:ext cx="7765920" cy="142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9177D7-4CC6-4F77-9799-3CB1A43CBD0C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3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82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82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2000"/>
              </a:lnSpc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82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82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openepi.com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dc.gov/epiinfo/" TargetMode="External"/><Relationship Id="rId2" Type="http://schemas.openxmlformats.org/officeDocument/2006/relationships/hyperlink" Target="http://www.cdc.gov/epiinfo/" TargetMode="External"/><Relationship Id="rId3" Type="http://schemas.openxmlformats.org/officeDocument/2006/relationships/hyperlink" Target="mailto:epiinfo@cdc.gov" TargetMode="External"/><Relationship Id="rId4" Type="http://schemas.openxmlformats.org/officeDocument/2006/relationships/hyperlink" Target="http://www.epiinformatics.com/" TargetMode="External"/><Relationship Id="rId5" Type="http://schemas.openxmlformats.org/officeDocument/2006/relationships/hyperlink" Target="http://www.openepi.com/" TargetMode="External"/><Relationship Id="rId6" Type="http://schemas.openxmlformats.org/officeDocument/2006/relationships/hyperlink" Target="mailto:Andy.Dean@gmail.com" TargetMode="External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cc66"/>
                </a:solidFill>
                <a:latin typeface="Arial"/>
              </a:rPr>
              <a:t>Epi Info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3352680"/>
            <a:ext cx="6400800" cy="190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oftware para la Salud Públ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ara SO Microsoft Windows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Molde de la base de datos--Definicion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ormulario o cuestionario que corresponde a la estructura de la base de dat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a inform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cord o instan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ariable o ca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alor del da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ceptos de Epi Inf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l diseño de la base de datos depende de como  construye cuestionario o formulario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l diseño del cuestionario y la base de datos son guardados en una tabla llama “View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as columnas y las filas de los datos están guardados en una tabla de datos que corresponde a un “View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os “Views” están hechos en un programas especial llamado MAKE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l programa ENTER,si no existe dato alguno, hace la tabla de datos,  y permite entrar toda cantidad de records pos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¿Qué es un proyecto o un archivo MDB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3000" indent="-33300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n archivo MS Access (MDB)que contiene una o varias Views, tablas/datos, o tablas pa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3000" indent="-33300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na forma fácil de mantener la relación entre ítemes (como una epidemia o un sistema de vigilancia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3000" indent="-33300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uede incluir programas de Análisis (PGMs) que tambien pueden ser guardados separadamente como archivos de tex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06200"/>
            <a:ext cx="77724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Un ejemplo de un Archivo MDB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Uso de los niveles de computa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terac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gram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sarrollo de aplica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Posibilidades en el Futur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1640"/>
            <a:ext cx="7770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3000" indent="-333000">
              <a:lnSpc>
                <a:spcPct val="95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 está desarrollando una versión en Microsoft .NET en el CD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3000" indent="-333000">
              <a:lnSpc>
                <a:spcPct val="95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pansión de las calculadoras de estadisticas en la Web OpenEpi  (ahora en 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openepi.com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3000" indent="-333000">
              <a:lnSpc>
                <a:spcPct val="95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a introducción de la información y el almacenamiento directamente en la red, compatible con todos los buscadores we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3000" indent="-333000">
              <a:lnSpc>
                <a:spcPct val="95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mpartir la información vía la Web de forma segur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eferanci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772400" cy="675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a descargar Epi Info 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cdc.gov/epiinfo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yuda online 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epiinfo@cdc.go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tras informaciones 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www.epiinformatic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penEp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www.openepi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nvienos comentarios o sugerencias vía la ayuda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 e-mail es 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Andy.Dean@gmail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Y ahora, la demostración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Contenido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Defini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¿Qué es Epi Info para Window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¿Qué podemos hacer hacer con el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¿Quienes usan Epi Inf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Conceptos de Base de da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Posibiliades para el Futu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Referenci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566640"/>
            <a:ext cx="7772400" cy="126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336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Times New Roman"/>
              </a:rPr>
              <a:t>¿Qué es Epi Info para Windows?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3000" indent="-33300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n programa gratis para profesionales de la salud pública para crear, administrar y analizar bases de dat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3000" indent="-33300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na herramienta para investigacíon de epidemias, estudios, vigilancia epidemiológica, búsqueda y educ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3000" indent="-33300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troducción estandarizada a la computación en ambiente de Windo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2560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¿Qué puedes hacer con Epi Info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47440"/>
            <a:ext cx="7772400" cy="55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ápidamente hacer cuestionarios, entrar y procesar información de una investigación, estudio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oduce listas, tablas y estadísticas epidemiológicas en formato página web desde base de datos creadas por MS Access, Epi Infor y otros 20 formatos má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 manera interactiva, desarrollar programas de análisis y programas de administración de base de datos, para guardarlos y correrlos luego, o desarrollar aplicaciones permanentes desde un menú y usarlas para otros us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 datos ya recolectados, generar mapas y gráf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85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1.Características de Epi Info para Window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struido bajo estandares de Windows e 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rchivos de base de datos Microsoft Acces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rchivos generados tipo Web-browser (HTML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mpatibilidad con archivos de mapa Arc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struye base de datos directamente desde el cuestion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Graba, Lee, analiza 20 formatos de archivos difer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Estadísticas epidemiológicas para estudios descriptivos y comparativos, como son el riesgo relativo, límites de confidencias exactos, pruebas de mip-p exact y Fisher-exact, regresión logística, Análisis de sobreviviencia Kaplan-Meier modelo proporcional de azar de Co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85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2.Características de Epi Info para Window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sde un simple comando, varios gráficos por págin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mpatible con Arv View sistema de informacíon geográf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enú fácil y flexible de program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ersiones en otros idiom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3. Caraterísticas de Epi Info</a:t>
            </a: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4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mpresión y encriptación de datos de 128-b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mparación de datos para validación de información introducida en las bases de dat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enerador de Repor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unciones agregadas (min, max, avg, suma, cuen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¿Quién usa Epi Info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ás 1,500,000 de copias descargadas desde el  199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669,000 páginas web contienen “Epi Info,” “EpiInfo,”  o “Epi-Info” o “Epi_Info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80 Pai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Tipos de Dat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ormato libre—Material impreso, imágenes, documentos escritos, páginas web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structurado— Base de datos, hojas de cálculos, columnas y fil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Epi Info 2000</dc:title>
</cp:coreProperties>
</file>