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FEB87-881F-42FF-B79E-0B51015E9F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AC4-CB5B-441C-A325-AC813EA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708-695D-4B30-8A2B-C41DD30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CDA-1530-42C2-A3C6-E205C263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63E-27D1-444A-8C44-B89E6F85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A46E-43B4-42A1-B88A-280C3330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89F-56FB-4093-92A7-276694A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ECC8-7AEC-4664-96ED-32E9168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6D68-322D-4CA3-8FF7-A940E922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9B82-7CF1-4D39-BB0A-219DDD55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9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103-45C8-4F8D-9274-01A730EE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6D20-3ADA-4147-90B3-18500BD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C74-3F51-4FFF-9CF7-A08EFC44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21E-D774-4987-8821-E286B37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611A-2E14-41F9-960D-DCB3A68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412-3576-4745-BE99-E629A35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824-2D1A-41C2-A72D-1FA331DC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D80-BB93-4C26-8572-34377C58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615-6870-4B20-A5C7-5B25277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77-9D7D-4077-991F-11FA75B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4FF-8B9F-4E11-AFE7-1CED7FA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91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242-BA63-4056-A59B-B51ACFE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530-9878-4F57-BE79-613F737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B70-72D9-4BD6-A64B-B5288FE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56C-C6C9-4A49-A3F8-2F5976D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2080" cy="13689000"/>
            <a:chOff x="-8410680" y="1440"/>
            <a:chExt cx="17542080" cy="13689000"/>
          </a:xfrm>
        </p:grpSpPr>
        <p:sp>
          <p:nvSpPr>
            <p:cNvPr id="1" name=""/>
            <p:cNvSpPr/>
            <p:nvPr/>
          </p:nvSpPr>
          <p:spPr>
            <a:xfrm>
              <a:off x="5386320" y="1585800"/>
              <a:ext cx="3745080" cy="5261040"/>
            </a:xfr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19560" cy="13689000"/>
            </a:xfrm>
            <a:custGeom>
              <a:avLst/>
              <a:gdLst>
                <a:gd name="textAreaLeft" fmla="*/ 8408880 w 16819560"/>
                <a:gd name="textAreaRight" fmla="*/ 16818840 w 1681956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91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988B-BDC5-46D1-B0E5-2A5B97824275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3800" cy="10783800"/>
            <a:chOff x="-7761240" y="1465200"/>
            <a:chExt cx="16903800" cy="10783800"/>
          </a:xfrm>
        </p:grpSpPr>
        <p:sp>
          <p:nvSpPr>
            <p:cNvPr id="45" name=""/>
            <p:cNvSpPr/>
            <p:nvPr/>
          </p:nvSpPr>
          <p:spPr>
            <a:xfrm>
              <a:off x="3270240" y="2709720"/>
              <a:ext cx="5872320" cy="4148280"/>
            </a:xfr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0680" cy="10783800"/>
            </a:xfrm>
            <a:custGeom>
              <a:avLst/>
              <a:gdLst>
                <a:gd name="textAreaLeft" fmla="*/ 6724800 w 13450680"/>
                <a:gd name="textAreaRight" fmla="*/ 13450320 w 1345068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471240"/>
            <a:ext cx="7769160" cy="14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0E5F-CD67-4D8B-B026-3A5923328C2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penepi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dc.gov/epiinfo/" TargetMode="External"/><Relationship Id="rId2" Type="http://schemas.openxmlformats.org/officeDocument/2006/relationships/hyperlink" Target="mailto:epiinfo@cdc.gov" TargetMode="External"/><Relationship Id="rId3" Type="http://schemas.openxmlformats.org/officeDocument/2006/relationships/hyperlink" Target="http://www.epiinformatics.com/" TargetMode="External"/><Relationship Id="rId4" Type="http://schemas.openxmlformats.org/officeDocument/2006/relationships/hyperlink" Target="http://www.openepi.com/" TargetMode="External"/><Relationship Id="rId5" Type="http://schemas.openxmlformats.org/officeDocument/2006/relationships/hyperlink" Target="mailto:Andy.Dean@gmail.com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pi Info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6400800" cy="19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for Public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Microsoft Windows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tabase Lingo--Defini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r questionnaire corresponds to database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or 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or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pi Info Concep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base is designed by building a questionnaire or for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questionnaire and database design are stored in a table called 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ws and columns of data are stored in a Data table corresponding to the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s are made in a special program—MAK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TER program makes a data table, if none exists, and allows entry of as many records as des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Project or MDB Fi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icrosoft Access (MDB) file containing one or many View Table/Data Table 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andy way to keep related items (an epidemic or surveillance system)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include Analysis programs (PGMs) or they can be stored separately as text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roject (MDB) 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vels of Computer 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.NET version now being developed at CD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sion of OpenEpi statistical calculators on the web (Now at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openepi.c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entry and storage completely on the web, via all common brow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ing of data through web storage (and enhanced secur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ll Epi Info from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dc.gov/epiinf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line  emai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piinfo@cdc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nfo at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piinformatic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Epi is at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openep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comments and suggestions to Hel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email i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ndy.Dean@g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d Now to the Demo…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Epi Info for Window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can you do with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uses Epi Inf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base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Epi Info for Window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software for public health professionals to create, manage, and analyze databases to produce epidemiologic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ool for epidemic investigation, studies, surveillance, research, and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ndards-based introduction to computing in the Windows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hat Can You Do With Epi Info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ly make a questionnare, enter, and process data from an investigation, study, or cli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 lists, tables, and epidemiologic statistics as web pages from data in Access, Epi Info, and 20 other database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nalysis and data management programs interactively, store and run them, or develop permanent menu applications for others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 programs for later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graphs and maps from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1.Features of Epi Info for Window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ilt around Windows and Internet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crosoft Access Databas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-browser (HTML)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cView-compatible Map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base constructed automatically from questionnaire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s, writes, and analyzes files in 20+ form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idemiologic statistics for descriptive and comparative studies, including odds ratios, risk ratios, exact confidence limits, Fisher and mid-p exact tests, logistic regression, Kaplan-Meier survival analysis, and Cox proportional haz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2.Features of Epi Info for Window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graphs per page from a single 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View compatible geographic information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, programmabl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English language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3.Features of Epi Info for Window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8-bit encryption, zi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comparison for double data-entry val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gen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gate functions (min, max, avg, sum, cou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Uses Epi Info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1,500,000 copies downloaded since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69,000 web pages contain “Epi Info,” “EpiInfo,”  or “Epi-Info” or “Epi_Inf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0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nds of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format--Printed materials, images, written documents, web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d—Databases, spreadsheets, rows and colu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y</cp:lastModifiedBy>
  <dcterms:modified xsi:type="dcterms:W3CDTF">2007-03-10T20:12:15Z</dcterms:modified>
  <cp:revision>1</cp:revision>
  <dc:subject/>
  <dc:title>Epi Info 2000</dc:title>
</cp:coreProperties>
</file>