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C22-D5F1-4453-8B11-7C966CBE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184-0900-45BE-AC43-28DE9D5F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158-0476-449D-A160-B62172EF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863-E70B-450B-B24F-A073935F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B382-AF5D-4158-BD50-4AC115B1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CF22-560F-4476-ABBC-E9A87247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989F-D1D8-4D68-AA61-4E334AE1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77BA-7CF2-4B2C-A196-725055FE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AF06-D82C-45BE-AC60-B987EB3C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9432-BCA8-4AF2-8EE8-BBF5AA15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02DF-91AB-47F9-AFC6-583212B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90E-E219-4B5B-967F-5AF65170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CD95-4422-47A8-B768-C5B409C7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362E-E69A-48DC-9CA4-D12F499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73E-1DCE-4EE0-B39B-2EF28405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275-D5BE-46F2-978C-C357A50A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8561-DCC3-4D4B-86D8-0982B55F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7CD-F2B6-40DC-A90D-D49D745B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F69-6BC0-4C16-82DB-EDA31F9C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AE7-8692-4FCF-A890-F7F7B81C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D9F-763D-45F4-8A53-ABD4B445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617-7440-4658-BB55-BCC64B32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865-AB3D-4482-A940-402721CE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CE2-83BB-4128-AB22-995F15A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7D0D-A216-4EAF-978B-A744D5835A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906-035A-4BD1-978C-2D354966B2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Epi Inf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 to Course I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urses I and 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wo days ea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ughly equal parts of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uting, using Epi Info for Windo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pidemiology and public healt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urse I features investigations and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urse II features data management at the community or clinic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urse I Skil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database concep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 a computer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ter and analyz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graphs and ma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how to tie elements together with a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statistical calculators on the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urse II Skil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derstand data management probl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, import, export, aggregate, merge, back up, and encrypt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alyze complex sample data, use logistic regression, and survival analy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ke and use relational file struct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uild a new menu for an appl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ot geographic data by latitude and longitude for more than one vari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Remains for Course III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ing larger, permanent applic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cation development at the advanced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andard framework for application develop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vanced check code, analysis, and menu programm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rms and Concepts--Re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tabase or MDB=“project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iew table defines screens for data ent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ta table stores data in rows and columns compatible with Microsoft Ac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data entry with check co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analysis with PGM fi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the menu with MNU fi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haracteristics of Fields or Variab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field by any other name is a vari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elds or Variables hav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mpt—the “question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me—the short variable nam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ype—Text, multiline, number, date, yes/no, image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perties—ReadOnly, RepeatLast, et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lues in each record—the 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b order on the scre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y may also have check code to guide the process of data en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will happen in Course II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ine data management proble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taining and evaluating comparison data for current ra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alyzing a community cluster surve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king with more than one variable with tables and logistic regres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rug tr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ther and child relational data on HI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nerating and editing a men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pping rabid animals and positive bir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king a shape f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ther?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y Dean</cp:lastModifiedBy>
  <dcterms:modified xsi:type="dcterms:W3CDTF">2005-01-06T03:16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