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CA7-2BED-430F-971C-7653332F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B50-3C51-4BE5-8819-A1F0D077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0EE-4B80-4CCB-B9B4-597EE3EF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975-B8BE-4BE2-A023-BD2CBF63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FCC-E244-4667-BEB9-0E698B19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BB44-A7D1-4F36-83C3-12705C6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4E81-6354-4525-B478-C9CB153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018F-AEE9-4C49-97CE-E45A3315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4075-29D6-4985-BBF5-430FA35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3B0-C585-4748-BB7F-9E1909DE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4DBC-B536-4120-96A5-63C697D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B7C-0D7D-41CB-981F-121ECFD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0C6-C3DE-493B-A5FE-7F10D7CB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BA8-81F7-4AB4-8FCE-B8415BAF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344C-405D-462A-95C2-E68F214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17F5-ECAB-4073-BBA0-D7ED42BE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7092-702D-4B30-9FA5-C4AB7757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713-D8C6-4D57-87D4-D8D8587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4FE-3615-4C1D-B366-37CFE88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C00-0DE8-4FFF-85C2-1F060D4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9E3-9ADD-4023-9681-3D7C07B5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0C5-D21C-4FBB-9DDA-1C586BA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906-6E74-438A-9E79-DEBDAFD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1E0-EBCC-472E-9DC5-FF8FE71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019-0A53-40E3-9A03-90C301E6AF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9AB7-3BC1-4DCF-9481-93D475B3BC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duction to G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graphic Information Systems using Epi Info and Epi Map for Microsoft Windows®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S=Geographic data + graphic displ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Epi Map (and ArcView and ArcInfo) graphic display is based on shape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 commonly come from Microsoft Access/Epi Info (MDB) 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graphic identifier (like county name) links to polygon with the same name in shape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/Y coordinate values (like longitude/latitude) link to location on map in same coordin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something to display, count, or sum (like disease name, number of cases, c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se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n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ro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s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ro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s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One record per ca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ary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n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eas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Cou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ro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s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One record per geographic entit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hape F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SHP contains polygon, line, or point coordin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DBF contains names of features and optional info like population, area, alternate code systems, etc., in dBASE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shx, .sbn, .sbx files may or may not have other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5 must be present, although they are referred to as one “shape fil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present floor plans, diagrams, and other graphics in addition to ma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Map Displ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oropleth (colored/shade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t density—dots randomly placed within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gle categ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tegories with different symb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int plots by coordinate lo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1:37:44Z</dcterms:created>
  <dc:creator>Andrew G. Dean</dc:creator>
  <dc:description/>
  <dc:language>en-US</dc:language>
  <cp:lastModifiedBy>Andrew G. Dean</cp:lastModifiedBy>
  <dcterms:modified xsi:type="dcterms:W3CDTF">2004-04-30T00:10:15Z</dcterms:modified>
  <cp:revision>3</cp:revision>
  <dc:subject/>
  <dc:title>Introduction to GIS</dc:title>
</cp:coreProperties>
</file>