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93E-7AC3-4AC0-BB78-C9FA9E8A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F1A-54A4-4F7D-92C0-3D369965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8E4-D8B5-41DE-B71F-8B68B204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A7D-CD59-465E-865C-35E9684A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960D-0103-4152-9995-0CC23813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E94C-457D-43D0-8D3A-97B5E218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33EF-73C8-4129-9654-D84524B4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9E2A-3047-45AC-85E0-2666AC76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E4C2-9F3A-4322-940B-53FF2B60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06E1-A99C-41F2-80E6-EE538E9C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56DD-5500-4D27-89B2-22150172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98C-DF77-4CCF-8F5C-1CFD5EA3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638F-7583-490D-BD24-7B697B02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ED31-50D7-47C6-996C-3C2A41D4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8D07-44AE-4E64-8A2B-1E7F84BB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DAB8-F96A-4074-B19B-87DCF39E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2ABE-DC62-4D84-98C1-D670AA1F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5B0-F04E-402D-B595-CFF16652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421-DC8B-44F6-B1EA-6DC13536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636-2ABD-4DE1-9DCF-E08BB659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575-D4EC-499F-871D-69B07B60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8D1-95CC-4CA7-A8C9-F81CDC3A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1BC-EA90-4023-B0B4-12907411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BB7-1D3B-4217-AA1C-823AB574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3808-182A-4D58-96D1-6A6C3D6DB7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CFC1-9CE3-43AF-A607-1B34355386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troduction to G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graphic Information Systems using Epi Info and Epi Map for Microsoft Windows®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S=Geographic data + graphic displ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Epi Map (and ArcView and ArcInfo) graphic display is based on shape f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a commonly come from Microsoft Access/Epi Info (MDB) t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ographic identifier (like county name) links to polygon with the same name in shape f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/Y coordinate values (like longitude/latitude) link to location on map in same coordin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d something to display, count, or sum (like disease name, number of cases, cos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a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se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un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ro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as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ro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as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One record per ca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mmary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un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eas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Cou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ro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asl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One record per geographic entity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hape Fi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SHP contains polygon, line, or point coordin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DBF contains names of features and optional info like population, area, alternate code systems, etc., in dBASE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shx, .sbn, .sbx files may or may not have other stu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5 must be present, although they are referred to as one “shape fil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present floor plans, diagrams, and other graphics in addition to ma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Map Displ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oropleth (colored/shade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t density—dots randomly placed within polyg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ngle categ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tegories with different symbo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int plots by coordinate lo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21:37:44Z</dcterms:created>
  <dc:creator>Andrew G. Dean</dc:creator>
  <dc:description/>
  <dc:language>en-US</dc:language>
  <cp:lastModifiedBy>Andrew G. Dean</cp:lastModifiedBy>
  <dcterms:modified xsi:type="dcterms:W3CDTF">2004-04-30T00:10:15Z</dcterms:modified>
  <cp:revision>3</cp:revision>
  <dc:subject/>
  <dc:title>Introduction to GIS</dc:title>
</cp:coreProperties>
</file>